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4DC-08CA-4578-9ECC-E014423D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142-05B6-4793-9BEB-802889D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0D6-FFFD-4269-BAA2-5D6DA1A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761-6E49-4A4F-9E96-77EBFF19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FE1-6E06-4427-B8C3-A093592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CD3-8D6A-4D4C-BE89-451F8FC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D00-4A7F-4C8F-985D-C3F1C03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E29-E402-45EA-BFCD-EA5C85D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77F-9414-4A63-AA66-2A61F55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BE9-5D50-4598-9AFF-F3EEFA8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FF9-0C98-4994-8927-0024A3BC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31D-8F45-4036-B676-A2F93A0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7BF-ED96-460E-A8E2-75742542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43117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410080"/>
            <a:ext cx="64008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think of the message of this picture and quote are trying to convey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would be the consequence for how a person felt about their life by choosing either one of these path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arbut V Torah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Mr. Zo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ira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248520" cy="249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2666880"/>
            <a:ext cx="5715000" cy="87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s: Listen to the following song and answer the questions belo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When in ones life does the world seem like a mirac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How does one loose the ability to perceive miracl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t what times can one still feel amazed at life and why at that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What is his question? What do think this person is feeling?  What regrets does he seem to have about his life?  Which path do you think he ch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286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Tramp’s the Logic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36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0"/>
            <a:ext cx="2590920" cy="368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racle of Pu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0"/>
            <a:ext cx="3352680" cy="9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_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s: Read the article and answer the following questions in Chevruta according to th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What is the Rabbis initial question about Purim?  What concept must be re-examin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at is the definition of miracle? What is the essential aspect of a mira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Give an example of how something which not supernatural could be considered a mirac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How do we lose the ability to recognize miracl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Why is the Siddur filled with blessings over things which seem like mundane activiti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What are the two ways of sensing G-d’s presen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How can the story of Purim help us with appreciating the miracles of our liv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6035400" cy="9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mework Due Tuesday June 2, 2009 Take home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Ask your parents if they believe in miracles and what their definition of miracle is?  Record their defi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Share and have your parents read with you what you have learned today about redefining what a miracle is.   Then ask them if they have an example in their life that would fit this new definition (by Rabbi Steinshaltz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iracle is based not whether an event is supernatural but instead on the events personal signific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their example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7:03:48Z</dcterms:created>
  <dc:creator>tamian</dc:creator>
  <dc:description/>
  <dc:language>en-US</dc:language>
  <cp:lastModifiedBy>dzoppo</cp:lastModifiedBy>
  <dcterms:modified xsi:type="dcterms:W3CDTF">2009-06-01T15:38:28Z</dcterms:modified>
  <cp:revision>6</cp:revision>
  <dc:subject/>
  <dc:title>Slide 1</dc:title>
</cp:coreProperties>
</file>